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whoosh.wav" ContentType="audio/x-wav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FEB9-10A9-41B3-8AE9-47B74FB2F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C5B7-9EDD-47BF-B25A-D19424D6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6F5F-D616-4DAA-80C6-5A3489E16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F058-7C2F-4466-A57B-B0E92EA50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B517-EA45-4EF3-9899-AB4519C6D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18AD-36EF-45B1-AB93-3FCF683D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1AC7-F3DB-4D9C-882A-AF467AA6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0831-DEA3-4B6A-B586-27BA7A10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D5E5-E8EE-4836-8419-A315C94B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BD2E-789C-4731-AA1E-05D7C65C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C823-4CFF-408A-BFEE-C38A4C9E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7155-BF39-41CB-AF28-01B816A2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AD21-0539-42E2-8900-94550E68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99B6-8AA6-4603-9E2D-CC76E95D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9FE8-98D7-431F-A510-9FD75DFE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2CAD-33CA-4CD1-8E8C-9BB2AA0B6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1FEC-53B4-479D-980A-8BB1BEAAC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2815-89FB-449D-833D-1A09D1DA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FE24-1000-426E-8006-502F1A48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3038-F0AA-4C00-8A27-67DD5270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87E7-E4F1-4C05-A932-5EBA7C07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1873-D471-4B73-8AE7-21EF0BCD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DB5F-120C-4A7F-A42A-7F036F3F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5F3C-FC5E-4E9B-9EB8-71DFA853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12FC-E6CB-4524-9756-C090C1639B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E836-92C5-42F2-BD43-4190F35D78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Skills and Techniqu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Revision / part 4 NAB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59280" y="1484280"/>
            <a:ext cx="297180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xam ques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. Choose an activity. Describe the features of a model performance in a skill of your choice.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4 mark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Answering the ques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ame the activity and ski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type of skill is i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is the purpose of the skill? i.e. OHC is a building sh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plain that skills can be broken down into P.A.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scribe the P.A.R of the sk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6804000" y="189000"/>
            <a:ext cx="2133720" cy="15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ethods of gathering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 identify strengths and weakn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 improve your skill level using a P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itial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cus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Methods of gathering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Why appropri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ermanent rec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Repea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an be compa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Reliable 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ontrolled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Stages of learn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80880" y="3141720"/>
          <a:ext cx="8458200" cy="22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41720"/>
                    <a:ext cx="845820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Methods of practis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ust link to the stage of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. Shadow practic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(preparation stag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mitate 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 pres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Repetition drills (prep / practi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th or without m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ntinuous rally (practi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oth players play same shot repeatedl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Methods of practis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4.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mbination rally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automati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re game l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.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nditioned game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automati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cus on a certain sk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6.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ressure drills (automati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re game l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mprove skill whilst under pres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Monitoring train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ow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ining di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-tes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acher advice / feed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ensure improvements are being m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ensure training is challen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establish any further developments that have to be m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Homewo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Due date: Monday 26</a:t>
            </a:r>
            <a:r>
              <a:rPr b="1" lang="en-GB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Octo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art 4 of N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8:26:10Z</dcterms:created>
  <dc:creator>FlemingC1</dc:creator>
  <dc:description/>
  <dc:language>en-US</dc:language>
  <cp:lastModifiedBy>FlemingC1</cp:lastModifiedBy>
  <dcterms:modified xsi:type="dcterms:W3CDTF">2009-10-19T11:24:27Z</dcterms:modified>
  <cp:revision>7</cp:revision>
  <dc:subject/>
  <dc:title>Skills and Techniques </dc:title>
</cp:coreProperties>
</file>